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489F-F956-4C68-8D9C-C7CBEB3435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D470-439E-4360-B0C3-D7D414BAFA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2559-BCD8-44D5-87D4-C2C9390514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7592-1FA2-4995-AD0E-815F40BD14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635-55B6-491D-AA4E-C1E2429D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8F3-BA69-4D42-B4AA-24EAF208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F1D-9D8F-4BC2-8855-D4487EBE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BEC-D808-46F6-A18B-D60915F1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C78A-7D3C-4123-AD15-01354482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19F1-ADAB-4624-8FBD-5A5106A1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ADEB-6C64-41F9-84D1-8AB96D12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F4A3-57E7-4371-878E-E512119B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6DB0-A6B5-41EB-80FD-E5657FD4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6EE5-F4CE-4398-9589-DB825FDA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7D9B-AA83-4F06-B535-32C56F27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E37A-A828-4D2F-AA0A-A8B37A14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0112-659E-4D92-A306-F38E0563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78DB-B00C-4D7C-94E3-66F42600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BA36-CFDC-497E-AB42-CDB83931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B008-DEB8-4CE1-8D39-F0403F96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9370-4679-46E7-9C7C-D8823FC4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447-F29A-458A-8DE9-A2193493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723-7A33-4D80-A7AD-4C3847B9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958-F97D-4E27-96B9-6CE50C7A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9B1-77C8-4F34-8149-FB5AE021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2199-CE26-4A09-8991-0C8C1A84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BEA-3A41-4668-8729-6131B82A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FD4-1508-46C5-8697-BA48C0E8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/>
                <a:ahLst/>
                <a:rect l="l" t="t" r="r" b="b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/>
                <a:ahLst/>
                <a:rect l="l" t="t" r="r" b="b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/>
                <a:ahLst/>
                <a:rect l="l" t="t" r="r" b="b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77EA-A36F-41AA-9679-91334C20B5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AF86-998E-4161-B48E-A83862D29C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133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 за 2017 год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00000" y="4797000"/>
            <a:ext cx="7058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лошина Людмила Иннокент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рач статис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УЗ ККИБ обособленное подразде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«Центр профилактики и борьбы со СПИД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 Забайкальском кра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7EFC-CFDC-4B9A-8FCA-472097DD8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90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867280" y="3284640"/>
            <a:ext cx="2590920" cy="1739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казываю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лько те пациенты с ВИЧ-инфекцией, которые были пролечены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отчетном году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орма №61 </a:t>
            </a:r>
            <a:br>
              <a:rPr sz="24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. Пр. Росстата №672 от 30.12.20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жгодовой контроль 20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/20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3860280"/>
            <a:ext cx="8229600" cy="25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1, 2000, 1, 04 отч. год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61, 1000, 12, 19 пред. года + 61, 2000, 1, 05+07+09 отч. года – 61, 2000, 1, 10 отч.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1, 2000, 8, 04 отч. год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61, 1000, 13, 19 пред. года + 61, 2000, 8, 05+07+09 отч. года – 2000, 8, 10 отч.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75BE-DCA3-44CD-BD63-0AB1DC653E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mai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й телефон: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1-03-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4A70-10F2-4515-B006-8ADB61AFE2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Инструкция по составлению государственного статистического отчета №61«Сведения о болезни, вызванной вирусом иммунодефицита человека» Москва,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«Методические рекомендации по порядку статистического учета и кодирования болезни, вызванной вирусом иммунодефицита человека (ВИЧ) в статистике заболеваемости и смертности» утвержденные МЗ РФ 28.06.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Информационная система AIDS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в себя только тех лиц, которые были обследованы на антитела к ВИЧ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екущем год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их организациях, относящихся к Минздраву России (центры СПИ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ока 1, графа 2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словия контроля: строка 1, графа 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gt;=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гр.3 (В20-24)+гр.4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 этом допускается, что сумма гр. 2+3 может быть меньше гр.2 только на число пациентов, выявленных в течение 1-го месяца (декабрь текущего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4179-8823-4FD8-ACD5-2E80F3B386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981000"/>
            <a:ext cx="8300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.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. 3100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2, гр.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о 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5+46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 47+4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 таб.1000, стр.1+2, гр.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1-4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3-4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р.49-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51-5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17E4-7EC8-4B93-B494-397E21B0AE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.57- 60, гр.5-1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57-5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центрах СП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 59-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таб.3100, стр.1, гр.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4A32-7875-4035-897A-2467FAC53E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Ф.61 таблица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Rectangle 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97920" cy="5832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140360" y="3573360"/>
            <a:ext cx="4572000" cy="228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1-8, гр.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3100, стр.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10, гр. 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31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.1, гр.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9, гр. 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1000, стр. 57-58, гр.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линические стад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. 2000, гр. 4 и 10 формирую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б. 2000, гр. 4, стр. 1-8 = таб. 2000, гр. 10+гр.15, стр. 1-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б. 2000, гр. 10 стр. 1-8 = таб. 2000, гр. 11+гр.13+гр.14 стр. 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1A04-2FB9-4218-B227-84ECA09AE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7BB7-6D81-40E2-A45A-0837C99B36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96000" cy="5977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96000" y="3573360"/>
            <a:ext cx="2665440" cy="201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таблице 3000 показываются только те пациенты с ВИЧ-инфекцией, которые бы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бследованы в отчетном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0288-FCEB-40FF-8A14-7B6350A9FB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Rectangle 3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29600" cy="576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08720" y="3141720"/>
            <a:ext cx="3168720" cy="283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строке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казывается число пациентов с ВИЧ-инфекцией с проявле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Б (коды В20.0, В 20.7, В 22.7), умерших в отчетном году от всех причин, 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ьзуются коды В20-В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e.tsybikova</dc:creator>
  <dc:description/>
  <dc:language>en-US</dc:language>
  <cp:lastModifiedBy>Центр</cp:lastModifiedBy>
  <dcterms:modified xsi:type="dcterms:W3CDTF">2017-12-08T06:39:06Z</dcterms:modified>
  <cp:revision>186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